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FC82-7EDC-4487-91B6-7B1DDB23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72AE-EC5F-49B7-8414-1B54D179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4A37-8F3D-4E89-8779-018633A2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7B8-5F32-4185-B8A1-96C66022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8F0E-A32B-42CD-9E6F-843F1020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DD7-8CD4-434C-8EF1-F000679D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052-0C5A-4FA5-A5AC-7DFC4B8F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6CF9-6774-4114-BF82-158C4D0B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FC54-8038-489E-BEFA-FFD0540D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51C-9EA3-423C-82A3-205AD6A3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B622-9F83-40B4-B6EE-A4EF01BA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D764-A8E1-45A0-8FE1-1FAF7470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133F-A97A-4DCB-A38D-C077C75406C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579096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El </a:t>
            </a:r>
            <a:r>
              <a:rPr b="0" lang="es-AR" sz="4400" spc="-1" strike="noStrike">
                <a:solidFill>
                  <a:srgbClr val="ffffff"/>
                </a:solidFill>
                <a:latin typeface="Arial Narrow"/>
              </a:rPr>
              <a:t>Burlador</a:t>
            </a: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 de Sevill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560" y="2819520"/>
            <a:ext cx="2895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irso de Molin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 Narrow"/>
              </a:rPr>
              <a:t>Tirso de Molina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Gabriel Téllez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Nacido en Madrid, el 24 de marzo de 157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Se ordenó sacerdote en 1606 en Toled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Escribió las comedias, las obras históricas, y las dramas religios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1700280"/>
            <a:ext cx="40384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 Narrow"/>
              </a:rPr>
              <a:t>El Argumento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El personaje principal es Don Juan Tenori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Don Juan es un burlador que tiene la obsesión de las muje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Burla muchas mujeres, la duquesa de Nápoles, una pescadora, una pastora, y otras*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141880" y="1523880"/>
            <a:ext cx="3241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 Narrow"/>
              </a:rPr>
              <a:t>La Tema / Moralej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Si se vive una vida mal, se será castigado*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Salvación es decidido por Di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59440" y="1600200"/>
            <a:ext cx="3214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 Narrow"/>
              </a:rPr>
              <a:t>Las Personaj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Don Jua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 Narrow"/>
              </a:rPr>
              <a:t>Su sirviente Catalinón*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 Narrow"/>
              </a:rPr>
              <a:t>Su tío, Don Pedr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El rey de Nápol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Octavio (el duqu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Marqués de la Mota (se enamora de doña Ana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Don Gonzalo (la estatua pierda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Muje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 Narrow"/>
              </a:rPr>
              <a:t>Isabela (la duquesa Nápole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 Narrow"/>
              </a:rPr>
              <a:t>Tisbea (la pescador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 Narrow"/>
              </a:rPr>
              <a:t>Aminta (la pastor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 Narrow"/>
              </a:rPr>
              <a:t>Doña Ana (la hija de don Gonzalo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Los </a:t>
            </a:r>
            <a:r>
              <a:rPr b="0" lang="es-AR" sz="4400" spc="-1" strike="noStrike">
                <a:solidFill>
                  <a:srgbClr val="ffffff"/>
                </a:solidFill>
                <a:latin typeface="Arial Narrow"/>
              </a:rPr>
              <a:t>Símbolos</a:t>
            </a: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La noche es simbólico de accionas mal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Don Pedro describe un demonio que transforma en humo y polv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Catalinón dice “Pobre Batricio, has caído en las manos de Lucifer [don Juan]”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2538360"/>
            <a:ext cx="403848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 Narrow"/>
              </a:rPr>
              <a:t>Opinió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La obra es un poco tonto, pero es muy cómic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Las personajes son aburridos con excepción a Catalinó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La tema es verdad ho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El estilo es bueno y congruen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Los escenarios hacen suspens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Argumento - B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Personajes - 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Tema - 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Estilo - B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Narrow"/>
              </a:rPr>
              <a:t>Escenario - 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20:24:59Z</dcterms:created>
  <dc:creator>Tran</dc:creator>
  <dc:description/>
  <dc:language>en-US</dc:language>
  <cp:lastModifiedBy>Tran</cp:lastModifiedBy>
  <dcterms:modified xsi:type="dcterms:W3CDTF">2009-04-13T22:31:13Z</dcterms:modified>
  <cp:revision>19</cp:revision>
  <dc:subject/>
  <dc:title>El Burlador de Sevilla</dc:title>
</cp:coreProperties>
</file>